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1224F-0CA6-4146-9078-BEA3CF7E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793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55280" y="4018680"/>
            <a:ext cx="793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A4C30-7C35-4FFC-A853-FA987F6A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19680" y="198864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55280" y="401868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19680" y="401868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F27E9-4A46-4A2E-8409-A55BF116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2553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36920" y="1988640"/>
            <a:ext cx="2553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18200" y="1988640"/>
            <a:ext cx="2553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55280" y="4018680"/>
            <a:ext cx="2553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36920" y="4018680"/>
            <a:ext cx="2553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18200" y="4018680"/>
            <a:ext cx="2553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BF261-97B1-4046-911E-2AF27CE2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B3E1-89C6-45A7-9D65-D2B2C709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931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C21A-6E19-42EB-8247-ED1770FD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7931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303E-F3B8-4139-BDD5-9D6275B7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3870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9680" y="1988640"/>
            <a:ext cx="3870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8193-EE71-41DF-88E8-463D6446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BCD1-F66A-4595-B906-484B5E9D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55280" y="457200"/>
            <a:ext cx="79311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D825-27CB-455C-A21B-70AA8B92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19680" y="1988640"/>
            <a:ext cx="3870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5280" y="401868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E1C4-52AC-408C-88D7-FA8DE0B1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931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3EE6B-363A-4292-B4A7-22DF3D8D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3870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19680" y="198864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19680" y="401868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2D4A-49BE-4763-A202-610981A2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9680" y="198864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55280" y="4018680"/>
            <a:ext cx="793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F096-CCC7-497C-A949-7D729618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793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55280" y="4018680"/>
            <a:ext cx="793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9BC4-0408-43EE-99A8-2233F23C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19680" y="198864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55280" y="401868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19680" y="401868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DCE7-EEBF-4121-9465-88D1E2CD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2553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36920" y="1988640"/>
            <a:ext cx="2553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18200" y="1988640"/>
            <a:ext cx="2553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755280" y="4018680"/>
            <a:ext cx="2553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36920" y="4018680"/>
            <a:ext cx="2553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18200" y="4018680"/>
            <a:ext cx="2553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7454-3D90-408D-9812-1149E056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7931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6007B-F7D8-45CC-B6C5-B8675748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3870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9680" y="1988640"/>
            <a:ext cx="3870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18F60-B690-47DA-9A59-E10B7A3D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0B92-4665-42DF-98C5-49A8725A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55280" y="457200"/>
            <a:ext cx="79311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465A0-DEFB-44DB-A86F-E5965FEE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9680" y="1988640"/>
            <a:ext cx="3870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280" y="401868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D1D1-C2CF-4368-8541-3B252FFB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3870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9680" y="198864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19680" y="401868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7A769-8E65-43C9-856E-B0805FBD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9680" y="1988640"/>
            <a:ext cx="3870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4018680"/>
            <a:ext cx="7931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438F-E476-4865-8917-8C3EB00E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0CF8-85A4-4EEA-A83B-78276A48D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755280" y="1988640"/>
            <a:ext cx="7931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1027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028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029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1030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031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032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33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34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35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036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037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038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039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55280" y="1988640"/>
            <a:ext cx="7931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20A2-2840-4381-90AE-0993491B5E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457200"/>
            <a:ext cx="82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综合写作课件（一）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9311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600" spc="-1" strike="noStrike">
                <a:solidFill>
                  <a:srgbClr val="00ff99"/>
                </a:solidFill>
                <a:latin typeface="Arial"/>
              </a:rPr>
              <a:t>新闻评论写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456840"/>
            <a:ext cx="793116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二、新闻评论的写作技法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071720"/>
            <a:ext cx="55720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归纳推理：从个别知识的前提推出一般知识的结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：鲁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申报月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发表过一篇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经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文章，其中写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约古人一有病，最初只好这样尝一点，那样尝一点，吃了毒的就死，吃了不相干的就无效，有的竟吃到了对症的就好起来，于是知道这是对于某一种病痛的药。这样地累积下去，乃有草创的纪录，后来渐成为庞大的书，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草纲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就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析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草纲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就是一个归纳的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3" descr="鲁迅油画像.jpg"/>
          <p:cNvPicPr/>
          <p:nvPr/>
        </p:nvPicPr>
        <p:blipFill>
          <a:blip r:embed="rId1"/>
          <a:stretch/>
        </p:blipFill>
        <p:spPr>
          <a:xfrm>
            <a:off x="5500800" y="1285920"/>
            <a:ext cx="364320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www_tuweimei_comComp_12559620_0a2P9xhs2UZGoNaZbOcRkdvv8nlcqneg.jpg"/>
          <p:cNvPicPr/>
          <p:nvPr/>
        </p:nvPicPr>
        <p:blipFill>
          <a:blip r:embed="rId1"/>
          <a:stretch/>
        </p:blipFill>
        <p:spPr>
          <a:xfrm>
            <a:off x="4572000" y="5014800"/>
            <a:ext cx="4572000" cy="1843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456840"/>
            <a:ext cx="793116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二、新闻评论的写作技法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071720"/>
            <a:ext cx="9144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类比推理：根据两个或两类事物在一系列属性上的相同或相似，推出它们在其他属性上也相同或相似。这是“从个别到个别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：有一个供销社的工作人员在下乡途中，看到山坡上长满红红的酸枣子，摘下几个尝了尝，发现这种果实含有淀粉、酸里带甜，由此而联想到酿酒的原料具有这些性质，从而推想到酸枣子也有酿酒的可能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析：这就是一种类比推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让“鞋垫奶奶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也成为“三嫂院士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雷泓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多家媒体报道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“鞋垫奶奶”张素婷，在河北师大老校区做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年缝缝补补的活，但近日却遭学校驱赶。师大保卫处称是按规定办事，摊贩不让进学校。学生则呼吁为了保存一份集体回忆，集体求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鞋垫奶奶”仅仅是一个摊贩吗？绝对不是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一，每一次缝缝补补，都浸润着老人家的血汗，一针一线持续缝合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年从未间断，给孩子们带来了方便的同时，更将敬业、尊重、和气等，缝进了针线活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二，鞋垫不仅是手工活儿，鞋垫上的图案，以及均匀的针脚，也是美好的工艺品。老人对学子们的审美情操，也是一种无声的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三，“鞋垫奶奶”就是孩子们的祖辈，让单调的校园增加了诸多人间真情和思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四，与老人的交流成为大学生活的人生记忆，这比教育更可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33300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学之“大”，更在于思想包容和开放。写到这里想到前不久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的香港大学宿舍服务员“三嫂”袁苏妹，被香港大学授予“荣誉院士”。她只会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字，港大却赞她“以自己的生命影响大学堂仔的生命”，是“大学宿舍灵魂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希望河北也能将“鞋垫奶奶”当做我们的“三嫂院士”，赞扬她几十年里刻成了大学记忆、人生教材。这对彰显大学精神、育人效果，都是一种推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发表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1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日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陵晚报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4" descr="www_tuweimei_comComp_21299776_mdMt0EA7P1pD8tGODN0jYyStIQBYs2aV.jpg"/>
          <p:cNvPicPr/>
          <p:nvPr/>
        </p:nvPicPr>
        <p:blipFill>
          <a:blip r:embed="rId1"/>
          <a:stretch/>
        </p:blipFill>
        <p:spPr>
          <a:xfrm>
            <a:off x="6012000" y="4246560"/>
            <a:ext cx="3132000" cy="2611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179280" y="33300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让“鞋垫奶奶”也成为“三嫂院士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归纳推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类比推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综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类比推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5"/>
          <p:cNvSpPr/>
          <p:nvPr/>
        </p:nvSpPr>
        <p:spPr>
          <a:xfrm>
            <a:off x="468360" y="2565360"/>
            <a:ext cx="1336680" cy="1593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4"/>
          <p:cNvSpPr/>
          <p:nvPr/>
        </p:nvSpPr>
        <p:spPr>
          <a:xfrm>
            <a:off x="4284720" y="2060640"/>
            <a:ext cx="287280" cy="720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4"/>
          <p:cNvSpPr/>
          <p:nvPr/>
        </p:nvSpPr>
        <p:spPr>
          <a:xfrm>
            <a:off x="4211640" y="3213000"/>
            <a:ext cx="289080" cy="720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4"/>
          <p:cNvSpPr/>
          <p:nvPr/>
        </p:nvSpPr>
        <p:spPr>
          <a:xfrm>
            <a:off x="4211640" y="4365720"/>
            <a:ext cx="289080" cy="718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"/>
          <p:cNvSpPr/>
          <p:nvPr/>
        </p:nvSpPr>
        <p:spPr>
          <a:xfrm flipH="1">
            <a:off x="1619280" y="1484280"/>
            <a:ext cx="1008000" cy="4105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“徐州贾汪新政”：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叫好声中且慢庆功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55280" y="2286000"/>
            <a:ext cx="79311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刘泱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徐州市贾汪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科级干部，全部真名实姓在网上公开个人家庭财产等情况，此举开全国先河。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代快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55280" y="1988640"/>
            <a:ext cx="7931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在网上向全社会公开干部的房产、收入、配偶及子女状况，尽管还存在许多不足，但徐州贾汪区的做法，无疑赢得了大多数网友的叫好。重庆网友认为此举“比以各种借口就是不公开要强一万倍、一百万倍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但我读了这则新闻之后，喜悦不敌疑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14240" y="357120"/>
            <a:ext cx="79725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首先，“徐州贾汪新政”并非是“新近发生”的新闻，但至今在全国仍是“独家”。早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贾汪区就成立了由纪委牵头，多部门参加的贾汪区勤廉评价系统建设领导小组，组织设计了“贾汪区勤廉评价系统”，并于当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正式上线。公开科级干部的个人家庭财产等方面的信息，只是“勤廉评价系统”下面的子项。但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至今，大半年时间过去，在网上公开“科级干部”的个人家庭财产等信息，“徐州贾汪新政”在全国范围内仍然是“独家”，这叫人如何能够高兴起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-324000" y="285480"/>
            <a:ext cx="9468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其次，徐州贾汪新政，既然能开全国之先河，就说明在网上晒领导干部的家底“非不能也，是不为也”。“科干”既然可以晒、“处干”、“厅干”当然也可以晒。毕竟，今天的“厅干”和“处干”绝大多数都是从“科干”职位提拔上来的。晒一部分，就阳光一部分，晒一级，腐败滋生的温床就减少一级；同时，领导干部的个人家庭财产等信息在网上公开的速度快一点，腐败的机会就少一点。尽管“徐州贾汪新政”在反腐败上有其积极意义，但其目前所影响的，还只是“科级”干部，深度有限，其影响的范围，目前还未溢出徐州，范围亦有限。言及此，我看我们还是且慢为“徐州贾汪新政”叫好。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发表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1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日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现代快报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720" y="1844640"/>
            <a:ext cx="44798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新闻评论写作</a:t>
            </a: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右箭头 3"/>
          <p:cNvSpPr/>
          <p:nvPr/>
        </p:nvSpPr>
        <p:spPr>
          <a:xfrm>
            <a:off x="1143000" y="4786200"/>
            <a:ext cx="4857840" cy="13575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007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技 法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与 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案 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角三角形 5"/>
          <p:cNvSpPr/>
          <p:nvPr/>
        </p:nvSpPr>
        <p:spPr>
          <a:xfrm rot="16200000">
            <a:off x="8079480" y="5793480"/>
            <a:ext cx="914400" cy="12142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www_tuweimei_comComp_21299776_mdMt0EA7P1pD8tGODN0jYyStIQBYs2aV.jpg"/>
          <p:cNvPicPr/>
          <p:nvPr/>
        </p:nvPicPr>
        <p:blipFill>
          <a:blip r:embed="rId1"/>
          <a:stretch/>
        </p:blipFill>
        <p:spPr>
          <a:xfrm>
            <a:off x="7858080" y="5786280"/>
            <a:ext cx="1285920" cy="1071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78920" y="333360"/>
            <a:ext cx="8750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徐州贾汪新政：叫好声中且慢庆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归纳推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归纳推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归纳推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类比推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归纳推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5"/>
          <p:cNvSpPr/>
          <p:nvPr/>
        </p:nvSpPr>
        <p:spPr>
          <a:xfrm>
            <a:off x="468360" y="2565360"/>
            <a:ext cx="1336680" cy="1593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4"/>
          <p:cNvSpPr/>
          <p:nvPr/>
        </p:nvSpPr>
        <p:spPr>
          <a:xfrm>
            <a:off x="4286160" y="2571840"/>
            <a:ext cx="287280" cy="720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4"/>
          <p:cNvSpPr/>
          <p:nvPr/>
        </p:nvSpPr>
        <p:spPr>
          <a:xfrm>
            <a:off x="4214880" y="3714840"/>
            <a:ext cx="288720" cy="720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 flipH="1">
            <a:off x="1619280" y="1484280"/>
            <a:ext cx="1008000" cy="4105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4429080" y="1500120"/>
            <a:ext cx="287280" cy="720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3" descr="实名制.jpg"/>
          <p:cNvPicPr/>
          <p:nvPr/>
        </p:nvPicPr>
        <p:blipFill>
          <a:blip r:embed="rId1"/>
          <a:stretch/>
        </p:blipFill>
        <p:spPr>
          <a:xfrm>
            <a:off x="6286680" y="714240"/>
            <a:ext cx="2857320" cy="5643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285840"/>
            <a:ext cx="58881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一、（新闻）评论≠议论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1214280"/>
            <a:ext cx="6500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评论，是对某一个事件或现象发表自己独特的观点，并且要说服别人接受自己的观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二）议论，发表自己对某一个事件或现象的观点，不需要独特，也不需要说服别人接受自己的观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三）提出独特的观点，并且说服别人接受自己的观点，这是　“评论”不同于“议论”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二、新闻评论的写作技法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143240" y="2071440"/>
            <a:ext cx="482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一篇新闻评论只能有一个中心论点，即我们对于一个事件或现象的看法，必须能够用一句话概括出来，这一句话就是中心论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二）整篇新闻评论的任务就是说服别人接受这一中心论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2" descr="www.tuweimei.comComp_9746878_EtBbzppUiTUkQE4TFQhPsfxzHETMTelY.jpg"/>
          <p:cNvPicPr/>
          <p:nvPr/>
        </p:nvPicPr>
        <p:blipFill>
          <a:blip r:embed="rId1"/>
          <a:stretch/>
        </p:blipFill>
        <p:spPr>
          <a:xfrm>
            <a:off x="357120" y="2357280"/>
            <a:ext cx="3640320" cy="4286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二、新闻评论的写作技法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2920" y="157176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三）如何提出独特的论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于一个事件或现象，首先思考别人会怎样想？将别人的想法设为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别人既然一般会这样想，那么，“我”一定不这样想，我的想法要与别人“相反”，设为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如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清华生当保安也是一种成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这篇评论的观点就是“独特”的，因为一般人都会认为清华生当保安这不是一种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456840"/>
            <a:ext cx="793116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二、新闻评论的写作技法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214280"/>
            <a:ext cx="914400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四）新闻评论由“标题”、“由头”和“论证”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即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评论＝标题＋由头＋论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闻评论的标题以简短的文字标明议论范围、主要见解、作者意向和情感诉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恪守职业道德，提供放心食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国学热不必“一窝蜂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反对本本主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456840"/>
            <a:ext cx="793116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二、新闻评论的写作技法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1214280"/>
            <a:ext cx="935820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头是放在评论开头的部分，用于高度概括地介绍要评论的事实或现象，从而引出议论的材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： 曾是长沙县高考理科状元的张晓勇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从清华大学毕业后，在广州一合资日化企业工作。后父亲病倒，他选择回乡尽孝，在一陶瓷市场当保安。他说，“父母在，不远游，既然没能立业，还是选择安于现状回家！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1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文化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931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二、新闻评论的写作技法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2920" y="157176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论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即，如何说服别人接受自己的观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为了说服别人接受“我”的观点，这就需要找出几个（两个以上即可）“理由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每一个理由都是分论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将所找出的“理由”，有条理地表达出来即可。为了层次清楚，可以采用“首先，其次，再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，也可以用“第一，第二，第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456840"/>
            <a:ext cx="793116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二、新闻评论的写作技法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480" y="1071720"/>
            <a:ext cx="86439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说服别人接受自己的观点的过程就是论证的过程，论证最基本的方法是采用逻辑推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新闻评论写作常用的逻辑推理有三类：“演绎推理”、“归纳推理”和“类比推理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演绎推理：由一般原理推出特殊情况下的结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：人是要死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苏格拉底是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所以，苏格拉底是要死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" descr="95eef01f3a292df5049c3759bc315c6035a85edf8db15b23.jpg"/>
          <p:cNvPicPr/>
          <p:nvPr/>
        </p:nvPicPr>
        <p:blipFill>
          <a:blip r:embed="rId1"/>
          <a:stretch/>
        </p:blipFill>
        <p:spPr>
          <a:xfrm>
            <a:off x="7291440" y="4429080"/>
            <a:ext cx="185256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41:04Z</dcterms:created>
  <dc:creator>lm</dc:creator>
  <dc:description/>
  <dc:language>en-US</dc:language>
  <cp:lastModifiedBy>User</cp:lastModifiedBy>
  <dcterms:modified xsi:type="dcterms:W3CDTF">2014-05-26T08:19:11Z</dcterms:modified>
  <cp:revision>472</cp:revision>
  <dc:subject/>
  <dc:title>沟通的艺术</dc:title>
</cp:coreProperties>
</file>