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94767-B9EB-4A75-81C3-826F9CFBB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EAB2D-203B-4E3B-BEF5-E79203340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7D448-885C-4D31-B34B-41832D74A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E6551-9F18-4ABC-9B7E-7BF528805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C7ABB-7D47-455E-8722-8DE3ADDFD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348B-3045-4756-B34E-F9104BBE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BFB3-D762-4D10-87A9-C4B3C2E8F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30013-7AAF-41CD-8A04-620637D6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90C9-9115-433C-B234-350837AB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8594-674B-4073-986B-FE01C5A7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A3C8-6826-4014-8059-D6ED4FC0A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5677-5EEE-4D37-B61A-A1F155063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D4AE-9DFC-4580-9980-F986BF05BD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 </a:t>
            </a:r>
            <a:r>
              <a:rPr b="1" lang="zh-CN" sz="4400" spc="-1" strike="noStrike">
                <a:solidFill>
                  <a:srgbClr val="ff0000"/>
                </a:solidFill>
                <a:latin typeface="黑体"/>
                <a:ea typeface="黑体"/>
              </a:rPr>
              <a:t>党政公文 </a:t>
            </a:r>
            <a:br>
              <a:rPr sz="4400"/>
            </a:br>
            <a:r>
              <a:rPr b="1" lang="zh-CN" sz="4400" spc="-1" strike="noStrike">
                <a:solidFill>
                  <a:srgbClr val="ff0000"/>
                </a:solidFill>
                <a:latin typeface="黑体"/>
                <a:ea typeface="黑体"/>
              </a:rPr>
              <a:t>  第二节 报告的写作</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报告的概念与作用</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报告的特点与种类</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三、报告的文体思维意向</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四、报告的文本结构方式与文体思维操作技术</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五、写作中的相关注意事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例文评析</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        </a:t>
            </a:r>
            <a:r>
              <a:rPr b="1" lang="zh-CN" sz="1400" spc="-1" strike="noStrike">
                <a:solidFill>
                  <a:srgbClr val="000000"/>
                </a:solidFill>
                <a:latin typeface="黑体"/>
                <a:ea typeface="黑体"/>
              </a:rPr>
              <a:t>回顾上半年的工作，特别是在第一季度税收收入有所滑坡的情况下，及时研究出台相应的对策，从而实现第二季度的增收，计划执行的结果超出了预期目标，我们的主要经验体会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        </a:t>
            </a:r>
            <a:r>
              <a:rPr b="1" lang="zh-CN" sz="1400" spc="-1" strike="noStrike">
                <a:solidFill>
                  <a:srgbClr val="000000"/>
                </a:solidFill>
                <a:latin typeface="黑体"/>
                <a:ea typeface="黑体"/>
              </a:rPr>
              <a:t>一、进一步认清经济形势，充分掌握税源变化的实际，将组织收入工作落到实处。（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        </a:t>
            </a:r>
            <a:r>
              <a:rPr b="1" lang="zh-CN" sz="1400" spc="-1" strike="noStrike">
                <a:solidFill>
                  <a:srgbClr val="000000"/>
                </a:solidFill>
                <a:latin typeface="黑体"/>
                <a:ea typeface="黑体"/>
              </a:rPr>
              <a:t>二、挖潜堵漏，税收征管工作的力度明显增强。（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        </a:t>
            </a:r>
            <a:r>
              <a:rPr b="1" lang="zh-CN" sz="1400" spc="-1" strike="noStrike">
                <a:solidFill>
                  <a:srgbClr val="000000"/>
                </a:solidFill>
                <a:latin typeface="黑体"/>
                <a:ea typeface="黑体"/>
              </a:rPr>
              <a:t>三、各级领导切实转变工作作风，普遍深入第一线指导税收征管工作。（略）</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        </a:t>
            </a:r>
            <a:r>
              <a:rPr b="1" lang="zh-CN" sz="1400" spc="-1" strike="noStrike">
                <a:solidFill>
                  <a:srgbClr val="000000"/>
                </a:solidFill>
                <a:latin typeface="黑体"/>
                <a:ea typeface="黑体"/>
              </a:rPr>
              <a:t>总的来看，我市今年上半年的税收工作成绩不小，但我们也清醒地认识到了工作中存在的问题与不足。例如第一季度税收滑坡固然有种种客观原因，但与我们税收征管工作中存在的漏洞和问题也有相当的关系，个别干部对新形势下的税收征管工作存在着不适应的现象，存在着税源不明，力度欠缺的毛病，这是在今后的工作中要努力加以改进提高的。</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       </a:t>
            </a:r>
            <a:r>
              <a:rPr b="1" lang="zh-CN" sz="1400" spc="-1" strike="noStrike">
                <a:solidFill>
                  <a:srgbClr val="000000"/>
                </a:solidFill>
                <a:latin typeface="黑体"/>
                <a:ea typeface="黑体"/>
              </a:rPr>
              <a:t>以上报告，请审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                                                                        </a:t>
            </a:r>
            <a:r>
              <a:rPr b="1" lang="zh-CN" sz="1400" spc="-1" strike="noStrike">
                <a:solidFill>
                  <a:srgbClr val="000000"/>
                </a:solidFill>
                <a:latin typeface="黑体"/>
                <a:ea typeface="黑体"/>
              </a:rPr>
              <a:t>××</a:t>
            </a:r>
            <a:r>
              <a:rPr b="1" lang="zh-CN" sz="1400" spc="-1" strike="noStrike">
                <a:solidFill>
                  <a:srgbClr val="000000"/>
                </a:solidFill>
                <a:latin typeface="黑体"/>
                <a:ea typeface="黑体"/>
              </a:rPr>
              <a:t>市地方税务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                                                                       </a:t>
            </a:r>
            <a:r>
              <a:rPr b="1" lang="zh-CN" sz="1400" spc="-1" strike="noStrike">
                <a:solidFill>
                  <a:srgbClr val="000000"/>
                </a:solidFill>
                <a:latin typeface="黑体"/>
                <a:ea typeface="黑体"/>
              </a:rPr>
              <a:t>201×</a:t>
            </a:r>
            <a:r>
              <a:rPr b="1" lang="zh-CN" sz="1400" spc="-1" strike="noStrike">
                <a:solidFill>
                  <a:srgbClr val="000000"/>
                </a:solidFill>
                <a:latin typeface="黑体"/>
                <a:ea typeface="黑体"/>
              </a:rPr>
              <a:t>年</a:t>
            </a:r>
            <a:r>
              <a:rPr b="1" lang="zh-CN" sz="1400" spc="-1" strike="noStrike">
                <a:solidFill>
                  <a:srgbClr val="000000"/>
                </a:solidFill>
                <a:latin typeface="黑体"/>
                <a:ea typeface="黑体"/>
              </a:rPr>
              <a:t>7</a:t>
            </a:r>
            <a:r>
              <a:rPr b="1" lang="zh-CN" sz="1400" spc="-1" strike="noStrike">
                <a:solidFill>
                  <a:srgbClr val="000000"/>
                </a:solidFill>
                <a:latin typeface="黑体"/>
                <a:ea typeface="黑体"/>
              </a:rPr>
              <a:t>月</a:t>
            </a:r>
            <a:r>
              <a:rPr b="1" lang="zh-CN" sz="1400" spc="-1" strike="noStrike">
                <a:solidFill>
                  <a:srgbClr val="000000"/>
                </a:solidFill>
                <a:latin typeface="黑体"/>
                <a:ea typeface="黑体"/>
              </a:rPr>
              <a:t>20</a:t>
            </a:r>
            <a:r>
              <a:rPr b="1" lang="zh-CN" sz="1400" spc="-1" strike="noStrike">
                <a:solidFill>
                  <a:srgbClr val="000000"/>
                </a:solidFill>
                <a:latin typeface="黑体"/>
                <a:ea typeface="黑体"/>
              </a:rPr>
              <a:t>日</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简析</a:t>
            </a:r>
            <a:r>
              <a:rPr b="1" lang="zh-CN" sz="1800" spc="-1" strike="noStrike">
                <a:solidFill>
                  <a:srgbClr val="000000"/>
                </a:solidFill>
                <a:latin typeface="黑体"/>
                <a:ea typeface="黑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这是一份例行性情况性报告。着重向上级汇报了上半年税收征管工作所取得的成绩，围绕税收征管所开展的主要工作及其经验体会，结尾也说明了存在的某些问题。作为一份报告，主题比较明确，材料也比较详实，很有说服力。唯一不足的是，结尾有流于形式之嫌，应当就存在的问题提出明确的应对措施，并说明下一阶段的努力目标等事项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习作训练</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根据材料写作：</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1" lang="zh-CN" sz="2400" spc="-1" strike="noStrike">
                <a:solidFill>
                  <a:srgbClr val="ffffff"/>
                </a:solidFill>
                <a:latin typeface="黑体"/>
                <a:ea typeface="黑体"/>
              </a:rPr>
              <a:t>200×</a:t>
            </a:r>
            <a:r>
              <a:rPr b="1" lang="zh-CN" sz="2400" spc="-1" strike="noStrike">
                <a:solidFill>
                  <a:srgbClr val="ffffff"/>
                </a:solidFill>
                <a:latin typeface="黑体"/>
                <a:ea typeface="黑体"/>
              </a:rPr>
              <a:t>年</a:t>
            </a:r>
            <a:r>
              <a:rPr b="1" lang="zh-CN" sz="2400" spc="-1" strike="noStrike">
                <a:solidFill>
                  <a:srgbClr val="ffffff"/>
                </a:solidFill>
                <a:latin typeface="黑体"/>
                <a:ea typeface="黑体"/>
              </a:rPr>
              <a:t>3</a:t>
            </a:r>
            <a:r>
              <a:rPr b="1" lang="zh-CN" sz="2400" spc="-1" strike="noStrike">
                <a:solidFill>
                  <a:srgbClr val="ffffff"/>
                </a:solidFill>
                <a:latin typeface="黑体"/>
                <a:ea typeface="黑体"/>
              </a:rPr>
              <a:t>月</a:t>
            </a:r>
            <a:r>
              <a:rPr b="1" lang="zh-CN" sz="2400" spc="-1" strike="noStrike">
                <a:solidFill>
                  <a:srgbClr val="ffffff"/>
                </a:solidFill>
                <a:latin typeface="黑体"/>
                <a:ea typeface="黑体"/>
              </a:rPr>
              <a:t>5</a:t>
            </a:r>
            <a:r>
              <a:rPr b="1" lang="zh-CN" sz="2400" spc="-1" strike="noStrike">
                <a:solidFill>
                  <a:srgbClr val="ffffff"/>
                </a:solidFill>
                <a:latin typeface="黑体"/>
                <a:ea typeface="黑体"/>
              </a:rPr>
              <a:t>日，</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市地方税务局下发《关于加强个人所得税征收管理的通知》，要求各区、县地方税务局将本年度个人所得税征收管理措施落实后上报。</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县地方税务局按照市局的通知精神，发布了《</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县地方税务局关于认真执行个人所得税法的通告》，并在县城、乡镇举办多次宣讲活动，张贴宣传标语、宣传画，多次召集各企业相关负责人会议，请他们协助完成相关的征收工作，同时对金融、建筑、文化娱乐等部门，已派专人摸清税源，准备定期指派相关人员前往征收。请以</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县地方税务局的名义拟写一份公文。</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具体材料可适当虚拟</a:t>
            </a:r>
            <a:r>
              <a:rPr b="1" lang="zh-CN" sz="2400" spc="-1" strike="noStrike">
                <a:solidFill>
                  <a:srgbClr val="ffffff"/>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二节   报告的写作</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报告的概念与作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向上级汇报工作，反映情况，答复上级机关询问时所使用的陈述性上行公文。法定公文“报告”与一般意义上的通用应用文体的“报告”在使用范围、职能及写作要求上均有很大的不同，因此应该严格区分使用，不能将其混为一谈。</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报告的特点：汇报性；陈述性；遵循事后或事中行文原则。种类主要有</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工作性报告、情况性报告、报送性报告、答复性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第二节  报告的写作</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报告写作的文体思维意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陈述性思维意向：以简明的叙述、说明为主要表现方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企求性思维意向：无论是何种报告，其临案操作的目的是使自身的主观企求能够在相当程度上得到上级机关的认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证明性思维意向：力求在自我陈述中自我证明。自我证明性的意识与能力，构成了写好报告的重要思维前提。</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充足性思维意向：任何有现实意义与实用价值的报告，都必须追求和体现充足的理由，这也是文本价值实现的关键所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第二节  报告的写作</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四、报告的文本结构方式</a:t>
            </a:r>
            <a:r>
              <a:rPr b="1" lang="zh-CN" sz="2800" spc="-1" strike="noStrike">
                <a:solidFill>
                  <a:srgbClr val="ff0000"/>
                </a:solidFill>
                <a:latin typeface="Arial"/>
                <a:ea typeface="黑体"/>
              </a:rPr>
              <a:t>与文体思维操作技术：</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标题：由发文机关名称、事项及文种三个要素构成。其事项内容应准确地概括出报告的主要内容，体现标题现旨的原则，以便读者在尽可能短的时间内准确感知其主旨。如《</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市财政局关于开展“小金库”专项清理工作的情况报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主送机关：报告属于特指性上行公文，其主送机关只有一个，即为发文机关的直接上级主管机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第二节   报告的写作</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正文：（</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工作性报告分综合性报告和专题性报告两种：</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综合性工作报告</a:t>
            </a:r>
            <a:r>
              <a:rPr b="1" lang="zh-CN" sz="2800" spc="-1" strike="noStrike">
                <a:solidFill>
                  <a:srgbClr val="000000"/>
                </a:solidFill>
                <a:latin typeface="黑体"/>
                <a:ea typeface="黑体"/>
              </a:rPr>
              <a:t>的正文一般包括工作情况简述、主要成绩、经验体会、存在问题及今后的计划打算等内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专题性工作性报告</a:t>
            </a:r>
            <a:r>
              <a:rPr b="1" lang="zh-CN" sz="2800" spc="-1" strike="noStrike">
                <a:solidFill>
                  <a:srgbClr val="000000"/>
                </a:solidFill>
                <a:latin typeface="黑体"/>
                <a:ea typeface="黑体"/>
              </a:rPr>
              <a:t>则根据其表现内容的侧重点的不同而有所不同，如侧重于经验总结的工作报告，主要的表现内容则是从取得的成绩中总结归纳出成熟的经验，形成规律性认识，以期指导下一步的实践，存在的问题则可以略写或不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第二节   报告的写作</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情况性报告，</a:t>
            </a:r>
            <a:r>
              <a:rPr b="1" lang="zh-CN" sz="2800" spc="-1" strike="noStrike">
                <a:solidFill>
                  <a:srgbClr val="000000"/>
                </a:solidFill>
                <a:latin typeface="黑体"/>
                <a:ea typeface="黑体"/>
              </a:rPr>
              <a:t>通常是向上级机关汇报反映工作中出现的相关情况，如工作中出现的重大失误及工作中遇到的新情况、新问题等。其正文一般按照提出问题、分析问题、解决问题的层进模式处理；</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3</a:t>
            </a:r>
            <a:r>
              <a:rPr b="1" lang="zh-CN" sz="2800" spc="-1" strike="noStrike">
                <a:solidFill>
                  <a:srgbClr val="ff0000"/>
                </a:solidFill>
                <a:latin typeface="黑体"/>
                <a:ea typeface="黑体"/>
              </a:rPr>
              <a:t>）答复性报告</a:t>
            </a:r>
            <a:r>
              <a:rPr b="1" lang="zh-CN" sz="2800" spc="-1" strike="noStrike">
                <a:solidFill>
                  <a:srgbClr val="000000"/>
                </a:solidFill>
                <a:latin typeface="黑体"/>
                <a:ea typeface="黑体"/>
              </a:rPr>
              <a:t>的关键是针对上级机关所询问的事项作出准确、明确的回答，答复具体事项，说明相关的依据或理由；</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报送性报告</a:t>
            </a:r>
            <a:r>
              <a:rPr b="1" lang="zh-CN" sz="2800" spc="-1" strike="noStrike">
                <a:solidFill>
                  <a:srgbClr val="000000"/>
                </a:solidFill>
                <a:latin typeface="黑体"/>
                <a:ea typeface="黑体"/>
              </a:rPr>
              <a:t>的正文非常简短，主要说明报送的理由或依据，说明所报送的文件的名称、数量的相关内容即可。</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第二节   报告的写作</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a:t>
            </a:r>
            <a:r>
              <a:rPr b="1" lang="zh-CN" sz="3200" spc="-1" strike="noStrike">
                <a:solidFill>
                  <a:srgbClr val="000000"/>
                </a:solidFill>
                <a:latin typeface="Arial"/>
                <a:ea typeface="黑体"/>
              </a:rPr>
              <a:t>结尾：报告结尾的写作思维操作方式的选择必须考虑融进相对固定的结语模式之中。一般是另起一行用“特此报告”、“以上报告，请审阅”等形式作为结语，有时也可省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第二节   报告的写作</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写作注意事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根据《国家行政机关公文处理办法》的相关规定，报告的职能主要用于汇报工作、反映情况，因此，不能在报告中夹带请示事项，避免出现报告与请示文体混淆使用的现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综合性报告因表现内容比较多，应注重必要的归纳与概括，采用单项分类或综合分类的方式准确、鲜明的表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注重行文关系的特殊性，以简明的叙述、说明为报告文体的最主要的表达方式，少用或不用议论的方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例文评析</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市地方税务局关于</a:t>
            </a:r>
            <a:r>
              <a:rPr b="1" lang="zh-CN" sz="2000" spc="-1" strike="noStrike">
                <a:solidFill>
                  <a:srgbClr val="000000"/>
                </a:solidFill>
                <a:latin typeface="黑体"/>
                <a:ea typeface="黑体"/>
              </a:rPr>
              <a:t>201×</a:t>
            </a:r>
            <a:r>
              <a:rPr b="1" lang="zh-CN" sz="2000" spc="-1" strike="noStrike">
                <a:solidFill>
                  <a:srgbClr val="000000"/>
                </a:solidFill>
                <a:latin typeface="黑体"/>
                <a:ea typeface="黑体"/>
              </a:rPr>
              <a:t>年上半年税收工作的报告</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地税</a:t>
            </a:r>
            <a:r>
              <a:rPr b="1" lang="zh-CN" sz="2000" spc="-1" strike="noStrike">
                <a:solidFill>
                  <a:srgbClr val="000000"/>
                </a:solidFill>
                <a:latin typeface="黑体"/>
                <a:ea typeface="黑体"/>
              </a:rPr>
              <a:t>[201×]××</a:t>
            </a:r>
            <a:r>
              <a:rPr b="1" lang="zh-CN" sz="2000" spc="-1" strike="noStrike">
                <a:solidFill>
                  <a:srgbClr val="000000"/>
                </a:solidFill>
                <a:latin typeface="黑体"/>
                <a:ea typeface="黑体"/>
              </a:rPr>
              <a:t>号</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省地方税务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今年上半年，我局在</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市人民政府、省地方税务局的正确领导下，遵照全国税收工作会议的精神要求，并结合我市实际，开展了一系列的工作，并取得了很大的成绩，地方税收收入在连续两年超收的基础上，今年上半年又超额完成了计划，累计达</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亿元，比去年同期增长</a:t>
            </a:r>
            <a:r>
              <a:rPr b="1" lang="zh-CN" sz="1600" spc="-1" strike="noStrike">
                <a:solidFill>
                  <a:srgbClr val="000000"/>
                </a:solidFill>
                <a:latin typeface="黑体"/>
                <a:ea typeface="黑体"/>
              </a:rPr>
              <a:t>12</a:t>
            </a:r>
            <a:r>
              <a:rPr b="1" lang="zh-CN" sz="1600" spc="-1" strike="noStrike">
                <a:solidFill>
                  <a:srgbClr val="000000"/>
                </a:solidFill>
                <a:latin typeface="黑体"/>
                <a:ea typeface="黑体"/>
              </a:rPr>
              <a:t>％。现将上半年的工作情况报告如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今年上半年，我局紧密围绕全国税收工作会议精神，结合市人民政府下达的地方财政收入目标，着重开展了以下几方面的工作：</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一、进一步摸清税源，大力开展税收征管工作，努力实现税收计划完成过半的任务。（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二、继续贯彻全国税收工作会议精神，积极开展税制改革的相关工作。（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三、完成了国家能源交通重点建设资金的征集工作。（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四、开展了全市税源的摸底排查工作，进一步明确了具体的征收管理实施细则。（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五、对转业分配来的干部及基层税收人员做了两次全面的税收征管政策的培训。（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4:49:23Z</dcterms:created>
  <dc:creator>微软用户</dc:creator>
  <dc:description/>
  <dc:language>en-US</dc:language>
  <cp:lastModifiedBy>User</cp:lastModifiedBy>
  <dcterms:modified xsi:type="dcterms:W3CDTF">2014-05-28T09:46:12Z</dcterms:modified>
  <cp:revision>19</cp:revision>
  <dc:subject/>
  <dc:title>第六章    报告的写作</dc:title>
</cp:coreProperties>
</file>